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C9C7-49DE-4666-ACCB-E1334161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104C-3C10-45DC-AB28-CF0547C5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334-FBE7-426A-A00A-F241667D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029-7484-4543-B45B-EF8235C1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AA2-E1C7-4371-AA3C-CC83341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0827-ECFC-4AD9-B6A3-20B1AF4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F5E-88E4-4B9B-AB34-EA8F336B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51B3-CBEC-4DCA-8873-514DFF0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B7A0-79CE-4D74-BD35-63C4D82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7F5-B047-415C-8720-15440CD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137-22ED-42AC-A200-D315A8C9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3D0B-E71E-4F36-A81A-6D4FB68C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C287-C83F-4CA4-9BA5-2F87BEC635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средняя общеобразовательная школа № 88 города Тю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ильник из подручн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635280" y="4599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класс автор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О, руководителя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826920" y="214200"/>
            <a:ext cx="784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проекта:…………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…………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ть конструкцию издел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исать технологию изготовления в технологической кар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сследоват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ыявить возможные недостатки в конструкции, сборке.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1143000" y="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89080" y="642960"/>
          <a:ext cx="8640720" cy="5821200"/>
        </p:xfrm>
        <a:graphic>
          <a:graphicData uri="http://schemas.openxmlformats.org/drawingml/2006/table">
            <a:tbl>
              <a:tblPr/>
              <a:tblGrid>
                <a:gridCol w="3168360"/>
                <a:gridCol w="2376720"/>
                <a:gridCol w="30956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афическое изобра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пользуемое оборудование и инстру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необходимые материалы для изготовления …… в соответствии с эскиз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9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71640" y="260280"/>
            <a:ext cx="684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(изделия, результата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03:12:15Z</dcterms:created>
  <dc:creator>terry</dc:creator>
  <dc:description/>
  <dc:language>en-US</dc:language>
  <cp:lastModifiedBy>admin</cp:lastModifiedBy>
  <dcterms:modified xsi:type="dcterms:W3CDTF">2024-01-31T07:42:43Z</dcterms:modified>
  <cp:revision>5</cp:revision>
  <dc:subject/>
  <dc:title>Муниципальное автономное общеобразовательное учреждение средняя общеобразовательная школа № 88 города Тюмени</dc:title>
</cp:coreProperties>
</file>